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media/image5.wmf" ContentType="image/x-wmf"/>
  <Override PartName="/ppt/media/image6.gif" ContentType="image/gi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C015-5820-4A29-9897-48601874AC5B}"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0171-8F29-4C14-9FA0-9E49C5D16F92}"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47" name="PlaceHolder 1"/>
          <p:cNvSpPr>
            <a:spLocks noGrp="1"/>
          </p:cNvSpPr>
          <p:nvPr>
            <p:ph type="sldImg"/>
          </p:nvPr>
        </p:nvSpPr>
        <p:spPr>
          <a:xfrm>
            <a:off x="915840" y="744480"/>
            <a:ext cx="4959360" cy="3719520"/>
          </a:xfrm>
          <a:prstGeom prst="rect">
            <a:avLst/>
          </a:prstGeom>
          <a:ln w="0">
            <a:noFill/>
          </a:ln>
        </p:spPr>
      </p:sp>
      <p:sp>
        <p:nvSpPr>
          <p:cNvPr id="148"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FEF35-1091-491D-B9DD-5F578A44F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920AD-FDE4-4B58-9355-F5802D264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5B912-2EB6-4E84-A3F8-76811E988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6E48A-B666-4C87-B72E-8A71542E7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613FBD-2350-434D-A804-3F0009454A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E9F7C-1254-4D61-8760-A45E52A94E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6EB2A-44B9-462F-ADA2-BD95C8CD78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929C46-D299-4EDF-8EF3-3E114CCAEBE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C84E61-C948-468E-8A53-C2E9CC7A80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EE23B-6765-4AA7-994C-3822AFBC2A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47C25-2CF6-40BA-AA3C-04249C159F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DAD63-F654-4141-B8CB-AD551ED0C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B2699E-ABBB-4F20-9465-E586F02419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217CA-FF6A-4D58-99ED-68C8FD5F26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80A3D5-C350-4B7B-8AD4-6267565E72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293009-9FD7-488D-BBD8-774B4D7208C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F8549E-74F1-45E6-BD8E-4A4E8D6F28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2A188-25C8-4E8E-ACB2-140FB65C6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C773D-3716-45A3-9966-D3BFDCC78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4E65-D289-4186-AE25-B79284474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5599-BAE5-4E98-A086-9E4D12B9B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1B92-A7D8-4557-80AD-A6560309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B5644-FB3E-4D0C-9A48-ACEB3900E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C14C-5185-42CC-8056-E90C8E8D7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1DFA-F27B-407E-BC6D-F017C96DD34B}"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E1C7-5B1B-4BB5-A5E1-F73B3DA1651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Тақырып 3</a:t>
            </a:r>
            <a:br>
              <a:rPr sz="3300"/>
            </a:b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         жүйесіндегі            жоспарлау және экологиялық                 саясат </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ru-RU" sz="4400" spc="-1" strike="noStrike">
                <a:solidFill>
                  <a:srgbClr val="ff0000"/>
                </a:solidFill>
                <a:latin typeface="Tahoma"/>
              </a:rPr>
              <a:t>Экологиялық аспектілер</a:t>
            </a:r>
            <a:r>
              <a:rPr b="1" lang="ru-RU" sz="3900" spc="-1" strike="noStrike">
                <a:solidFill>
                  <a:srgbClr val="ffffff"/>
                </a:solidFill>
                <a:latin typeface="Tahoma"/>
              </a:rPr>
              <a:t> </a:t>
            </a:r>
            <a:endParaRPr b="0" lang="en-US" sz="3900" spc="-1" strike="noStrike">
              <a:solidFill>
                <a:srgbClr val="ffffff"/>
              </a:solidFill>
              <a:latin typeface="Tahoma"/>
            </a:endParaRPr>
          </a:p>
        </p:txBody>
      </p:sp>
      <p:pic>
        <p:nvPicPr>
          <p:cNvPr id="112" name="Picture 29" descr="j0185109"/>
          <p:cNvPicPr/>
          <p:nvPr/>
        </p:nvPicPr>
        <p:blipFill>
          <a:blip r:embed="rId2"/>
          <a:stretch/>
        </p:blipFill>
        <p:spPr>
          <a:xfrm>
            <a:off x="611280" y="1989000"/>
            <a:ext cx="3024000" cy="1974960"/>
          </a:xfrm>
          <a:prstGeom prst="rect">
            <a:avLst/>
          </a:prstGeom>
          <a:ln w="0">
            <a:noFill/>
          </a:ln>
        </p:spPr>
      </p:pic>
      <p:sp>
        <p:nvSpPr>
          <p:cNvPr id="113" name="PlaceHolder 2"/>
          <p:cNvSpPr>
            <a:spLocks noGrp="1"/>
          </p:cNvSpPr>
          <p:nvPr>
            <p:ph/>
          </p:nvPr>
        </p:nvSpPr>
        <p:spPr>
          <a:xfrm>
            <a:off x="684360" y="1916280"/>
            <a:ext cx="7796160" cy="382896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0000"/>
                </a:solidFill>
                <a:latin typeface="Tahoma"/>
              </a:rPr>
              <a:t>Экологиялық аспектілер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мысалдары</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Ауаға тастандылар</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2.Суға шығарылымдар</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3.Топырақтың ластануы</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4.Шикізат және табиғи</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ресурстарды қолдану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5.Қалдықтар және қосалқы өнімдер</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6.Физикалық сипаттамалар: мөлшері, пішіні, түсі</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ru-RU" sz="2400" spc="-1" strike="noStrike">
                <a:solidFill>
                  <a:srgbClr val="ff0000"/>
                </a:solidFill>
                <a:latin typeface="Tahoma"/>
              </a:rPr>
              <a:t>Экологиялық аспект – қоршаған ортаға әсер ете алатын ұйымның қызметінің, оның өнімінің немесе қызмет көрсетуі элементтері</a:t>
            </a:r>
            <a:br>
              <a:rPr sz="2400"/>
            </a:br>
            <a:br>
              <a:rPr sz="3700"/>
            </a:br>
            <a:endParaRPr b="0" lang="en-US" sz="2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 </a:t>
            </a:r>
            <a:endParaRPr b="0" lang="en-US" sz="24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ірдейлендіру рәсімін жасау және орындау</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оршаған ортаға едәуір әсер ететін аспектілерді анықтау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оршаған ортаға едәуір әсер ететін аспектілер экологиялық мақсаттар мен міндеттерді қою, ЭМЖ жасау, енгізу және ұстау кезінде есепке алынуын қамтамасыз ету</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Аспектілер (әсерлер) бойынша ақпараттың жаңаруы</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Tahoma"/>
              </a:rPr>
              <a:t>     </a:t>
            </a:r>
            <a:r>
              <a:rPr b="1" lang="ru-RU" sz="2400" spc="-1" strike="noStrike">
                <a:solidFill>
                  <a:srgbClr val="ff0000"/>
                </a:solidFill>
                <a:latin typeface="Tahoma"/>
              </a:rPr>
              <a:t>Қоршаған ортаға әсерлер кәсіпорынның іс-әрекеті нәтижесінде осы ортаның өзгеруін көрсетеді</a:t>
            </a:r>
            <a:endParaRPr b="0" lang="en-US" sz="2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Rectangle 13"/>
          <p:cNvSpPr/>
          <p:nvPr/>
        </p:nvSpPr>
        <p:spPr>
          <a:xfrm>
            <a:off x="468360" y="1916280"/>
            <a:ext cx="4103640" cy="417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                      </a:t>
            </a:r>
            <a:r>
              <a:rPr b="1" lang="ru-RU" sz="2000" spc="-1" strike="noStrike">
                <a:solidFill>
                  <a:srgbClr val="ffff00"/>
                </a:solidFill>
                <a:latin typeface="Tahoma"/>
              </a:rPr>
              <a:t>Аспект</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1.Жаһандық жылыну әсері</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2.Стратосферлік қабаттың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 </a:t>
            </a:r>
            <a:r>
              <a:rPr b="1" lang="ru-RU" sz="2000" spc="-1" strike="noStrike">
                <a:solidFill>
                  <a:srgbClr val="ffff00"/>
                </a:solidFill>
                <a:latin typeface="Tahoma"/>
              </a:rPr>
              <a:t>бұзыл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3.Табиғи ресурстардың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таусыл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4.Қышқылды жаңбырлар</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5.Беттік сулардың ластан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6.Токсиндердің биологиялық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жинал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9" name="Rectangle 14"/>
          <p:cNvSpPr/>
          <p:nvPr/>
        </p:nvSpPr>
        <p:spPr>
          <a:xfrm>
            <a:off x="4572000" y="1916280"/>
            <a:ext cx="4105440" cy="4176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      </a:t>
            </a:r>
            <a:r>
              <a:rPr b="1" lang="ru-RU" sz="2000" spc="-1" strike="noStrike">
                <a:solidFill>
                  <a:srgbClr val="ffff00"/>
                </a:solidFill>
                <a:latin typeface="Tahoma"/>
              </a:rPr>
              <a:t>                 </a:t>
            </a:r>
            <a:r>
              <a:rPr b="1" lang="ru-RU" sz="2000" spc="-1" strike="noStrike">
                <a:solidFill>
                  <a:srgbClr val="ffff00"/>
                </a:solidFill>
                <a:latin typeface="Tahoma"/>
              </a:rPr>
              <a:t>Әсер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1.Сапаға атмосфералық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ауаның әсері</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2.Шуыл</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3.Жерасты сулары мен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топырақтың ластан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4.5.Экологиялық зардап</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түрлердің жойылуы</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6.Әлеуметтік-экономикалық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00"/>
                </a:solidFill>
                <a:latin typeface="Tahoma"/>
              </a:rPr>
              <a:t>салдар</a:t>
            </a:r>
            <a:endParaRPr b="0" lang="en-US" sz="2000" spc="-1" strike="noStrike">
              <a:solidFill>
                <a:srgbClr val="ffffff"/>
              </a:solidFill>
              <a:latin typeface="Tahoma"/>
            </a:endParaRPr>
          </a:p>
        </p:txBody>
      </p:sp>
      <p:sp>
        <p:nvSpPr>
          <p:cNvPr id="120" name="plant"/>
          <p:cNvSpPr/>
          <p:nvPr/>
        </p:nvSpPr>
        <p:spPr>
          <a:xfrm>
            <a:off x="7083360" y="5445000"/>
            <a:ext cx="1809720" cy="14130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Экологиялық аспектілер</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   </a:t>
            </a:r>
            <a:r>
              <a:rPr b="1" lang="ru-RU" sz="3200" spc="-1" strike="noStrike">
                <a:solidFill>
                  <a:srgbClr val="ff0000"/>
                </a:solidFill>
                <a:latin typeface="Tahoma"/>
              </a:rPr>
              <a:t>Маңызды </a:t>
            </a:r>
            <a:r>
              <a:rPr b="1" lang="ru-RU" sz="3200" spc="-1" strike="noStrike">
                <a:solidFill>
                  <a:srgbClr val="ffffff"/>
                </a:solidFill>
                <a:latin typeface="Tahoma"/>
              </a:rPr>
              <a:t> </a:t>
            </a:r>
            <a:r>
              <a:rPr b="1" lang="ru-RU" sz="2800" spc="-1" strike="noStrike">
                <a:solidFill>
                  <a:srgbClr val="ffffff"/>
                </a:solidFill>
                <a:latin typeface="Tahoma"/>
              </a:rPr>
              <a:t>(мағыналы, мәнді, айтарлықтай) </a:t>
            </a:r>
            <a:r>
              <a:rPr b="1" lang="ru-RU" sz="3200" spc="-1" strike="noStrike">
                <a:solidFill>
                  <a:srgbClr val="ff0000"/>
                </a:solidFill>
                <a:latin typeface="Tahoma"/>
              </a:rPr>
              <a:t>экологиялық аспект-</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қоршаған ортаға едәуір әсер ететін немесе әсер етуі мүмкін аспект</a:t>
            </a:r>
            <a:endParaRPr b="0" lang="en-US" sz="2800" spc="-1" strike="noStrike">
              <a:solidFill>
                <a:srgbClr val="ffffff"/>
              </a:solidFill>
              <a:latin typeface="Tahoma"/>
            </a:endParaRPr>
          </a:p>
        </p:txBody>
      </p:sp>
      <p:pic>
        <p:nvPicPr>
          <p:cNvPr id="123" name="Picture 4" descr="bd05629_"/>
          <p:cNvPicPr/>
          <p:nvPr/>
        </p:nvPicPr>
        <p:blipFill>
          <a:blip r:embed="rId2"/>
          <a:stretch/>
        </p:blipFill>
        <p:spPr>
          <a:xfrm>
            <a:off x="5219640" y="4295880"/>
            <a:ext cx="3313080" cy="25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Экологиялық аспект</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Тікелей экологиялық аспект (әсер) -</a:t>
            </a:r>
            <a:r>
              <a:rPr b="1" lang="ru-RU" sz="3200" spc="-1" strike="noStrike">
                <a:solidFill>
                  <a:srgbClr val="ffffff"/>
                </a:solidFill>
                <a:latin typeface="Tahoma"/>
              </a:rPr>
              <a:t>  ұйыминың іс-әрекетімен, оның өнімі және қызметімен тікелей байланысты, ұйым бақылай алатын аспект (әсе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Экологиялық аспект</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Тікелей емес (жанама) экологиялық аспект (әсер) </a:t>
            </a:r>
            <a:r>
              <a:rPr b="1" lang="ru-RU" sz="3200" spc="-1" strike="noStrike">
                <a:solidFill>
                  <a:srgbClr val="ffffff"/>
                </a:solidFill>
                <a:latin typeface="Tahoma"/>
              </a:rPr>
              <a:t>–</a:t>
            </a:r>
            <a:r>
              <a:rPr b="0" lang="ru-RU" sz="3200" spc="-1" strike="noStrike">
                <a:solidFill>
                  <a:srgbClr val="ffffff"/>
                </a:solidFill>
                <a:latin typeface="Tahoma"/>
              </a:rPr>
              <a:t> ұйымның іс-әрекетімен байланысты емес, бірақ оған ол тікелей әсер ете алатын аспект </a:t>
            </a:r>
            <a:r>
              <a:rPr b="1" lang="ru-RU" sz="2400" spc="-1" strike="noStrike">
                <a:solidFill>
                  <a:srgbClr val="ffffff"/>
                </a:solidFill>
                <a:latin typeface="Tahoma"/>
              </a:rPr>
              <a:t>(мысалы, келісімшарттық міндеттер арқылы жеткізушілерге әсер ет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Экологиялық аспектілер</a:t>
            </a:r>
            <a:endParaRPr b="0" lang="en-US" sz="4400" spc="-1" strike="noStrike">
              <a:solidFill>
                <a:srgbClr val="ffffff"/>
              </a:solidFill>
              <a:latin typeface="Tahoma"/>
            </a:endParaRPr>
          </a:p>
        </p:txBody>
      </p:sp>
      <p:sp>
        <p:nvSpPr>
          <p:cNvPr id="129" name="PlaceHolder 2"/>
          <p:cNvSpPr>
            <a:spLocks noGrp="1"/>
          </p:cNvSpPr>
          <p:nvPr>
            <p:ph/>
          </p:nvPr>
        </p:nvSpPr>
        <p:spPr>
          <a:xfrm>
            <a:off x="468360" y="19162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    </a:t>
            </a:r>
            <a:r>
              <a:rPr b="1" lang="ru-RU" sz="3600" spc="-1" strike="noStrike">
                <a:solidFill>
                  <a:srgbClr val="ff0000"/>
                </a:solidFill>
                <a:latin typeface="Tahoma"/>
              </a:rPr>
              <a:t>Тарихи экологиялық аспект  </a:t>
            </a:r>
            <a:r>
              <a:rPr b="1" lang="ru-RU" sz="3600" spc="-1" strike="noStrike">
                <a:solidFill>
                  <a:srgbClr val="ffffff"/>
                </a:solidFill>
                <a:latin typeface="Tahoma"/>
              </a:rPr>
              <a:t>– </a:t>
            </a:r>
            <a:r>
              <a:rPr b="1" lang="ru-RU" sz="3200" spc="-1" strike="noStrike">
                <a:solidFill>
                  <a:srgbClr val="ffffff"/>
                </a:solidFill>
                <a:latin typeface="Tahoma"/>
              </a:rPr>
              <a:t>кәсіпорынның бұрынғы іс-әркетімен байланысты тікелей емес экологиялық аспект</a:t>
            </a:r>
            <a:endParaRPr b="0" lang="en-US" sz="3200" spc="-1" strike="noStrike">
              <a:solidFill>
                <a:srgbClr val="ffffff"/>
              </a:solidFill>
              <a:latin typeface="Tahoma"/>
            </a:endParaRPr>
          </a:p>
        </p:txBody>
      </p:sp>
      <p:pic>
        <p:nvPicPr>
          <p:cNvPr id="130" name="Picture 4" descr="j0336329"/>
          <p:cNvPicPr/>
          <p:nvPr/>
        </p:nvPicPr>
        <p:blipFill>
          <a:blip r:embed="rId2"/>
          <a:stretch/>
        </p:blipFill>
        <p:spPr>
          <a:xfrm>
            <a:off x="3708360" y="4149720"/>
            <a:ext cx="381636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Tahoma"/>
              </a:rPr>
              <a:t>       </a:t>
            </a:r>
            <a:r>
              <a:rPr b="1" lang="ru-RU" sz="3700" spc="-1" strike="noStrike">
                <a:solidFill>
                  <a:srgbClr val="ffffff"/>
                </a:solidFill>
                <a:latin typeface="Tahoma"/>
              </a:rPr>
              <a:t>Экологиялық аспектілер</a:t>
            </a:r>
            <a:br>
              <a:rPr sz="3700"/>
            </a:br>
            <a:r>
              <a:rPr b="1" lang="ru-RU" sz="2400" spc="-1" strike="noStrike">
                <a:solidFill>
                  <a:srgbClr val="ff0000"/>
                </a:solidFill>
                <a:latin typeface="Tahoma"/>
              </a:rPr>
              <a:t>Экологиялық аспектілерді шартты түрде бірнеше дәрежелерге бөлуге болады</a:t>
            </a:r>
            <a:endParaRPr b="0" lang="en-US" sz="2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Кіріс ағындар:</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шикізат пен табиғи ресурстарды қолданумен байланысты аспектілер</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Шығыс ағындар:</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000" spc="-1" strike="noStrike">
                <a:solidFill>
                  <a:srgbClr val="ffffff"/>
                </a:solidFill>
                <a:latin typeface="Tahoma"/>
              </a:rPr>
              <a:t>атмосфераға шығарылымдармен байланысты аспектіле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жерасты суларына түсірілімдермен байланысты аспектіле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топырақ, жерді ластаумен байланысты аспектілер </a:t>
            </a:r>
            <a:endParaRPr b="0" lang="en-US" sz="20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Апатты жағдайлармен байланысты аспектілер</a:t>
            </a:r>
            <a:endParaRPr b="0" lang="en-US" sz="24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Басқа да аспектілер</a:t>
            </a:r>
            <a:r>
              <a:rPr b="1" lang="ru-RU" sz="2400" spc="-1" strike="noStrike">
                <a:solidFill>
                  <a:srgbClr val="ffffff"/>
                </a:solidFill>
                <a:latin typeface="Tahoma"/>
              </a:rPr>
              <a:t> </a:t>
            </a:r>
            <a:r>
              <a:rPr b="1" lang="ru-RU" sz="2000" spc="-1" strike="noStrike">
                <a:solidFill>
                  <a:srgbClr val="ffffff"/>
                </a:solidFill>
                <a:latin typeface="Tahoma"/>
              </a:rPr>
              <a:t>(шу, діріл, электромагнитті сәулелер)</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ff"/>
                </a:solidFill>
                <a:latin typeface="Tahoma"/>
              </a:rPr>
              <a:t>Экологиялық аспектілер</a:t>
            </a:r>
            <a:endParaRPr b="0" lang="en-US" sz="3700" spc="-1" strike="noStrike">
              <a:solidFill>
                <a:srgbClr val="ffffff"/>
              </a:solidFill>
              <a:latin typeface="Tahoma"/>
            </a:endParaRPr>
          </a:p>
        </p:txBody>
      </p:sp>
      <p:graphicFrame>
        <p:nvGraphicFramePr>
          <p:cNvPr id="134" name=""/>
          <p:cNvGraphicFramePr/>
          <p:nvPr/>
        </p:nvGraphicFramePr>
        <p:xfrm>
          <a:off x="395280" y="1393920"/>
          <a:ext cx="8426520" cy="4628880"/>
        </p:xfrm>
        <a:graphic>
          <a:graphicData uri="http://schemas.openxmlformats.org/drawingml/2006/table">
            <a:tbl>
              <a:tblPr/>
              <a:tblGrid>
                <a:gridCol w="2736720"/>
                <a:gridCol w="3024360"/>
                <a:gridCol w="2665440"/>
              </a:tblGrid>
              <a:tr h="825480">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Экологиялық аспектілер мен әсерлердің мысалдары</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901800">
                <a:tc>
                  <a:txBody>
                    <a:bodyPr lIns="90000" rIns="90000" tIns="46800" bIns="46800" anchor="t">
                      <a:no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Іс-әрекет, өнім</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Аспект</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Әсер</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ahoma"/>
                        </a:rPr>
                        <a:t>Қауіпті материалдар-мен жұмыс істе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ездейсоқ ағу мүмкіндігі</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опырақ пен сулардың ластануы</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асымалдау құралдарын боя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тмосфераға ұшқыш заттардың шығарылуы</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уа сапасының нашарлауы</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Химиялық реактив</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Қолданудан кейін полигонда орналастыру</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ahoma"/>
                        </a:rPr>
                        <a:t>Топырақ суларының ластануы</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ТС қызмет көрсет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айдалану жүйелерінен шығарылымдар</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уаның жергілікті ластануы</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Мақсаттар, міндеттер, бағдарламалар</a:t>
            </a:r>
            <a:r>
              <a:rPr b="0" lang="ru-RU" sz="3600" spc="-1" strike="noStrike">
                <a:solidFill>
                  <a:srgbClr val="ff0000"/>
                </a:solidFill>
                <a:latin typeface="Tahoma"/>
              </a:rPr>
              <a:t> </a:t>
            </a:r>
            <a:endParaRPr b="0" lang="en-US" sz="36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аясат, мақсаттар және міндеттр арасындағы қарым-қатынасар қандай? </a:t>
            </a:r>
            <a:endParaRPr b="0" lang="en-US" sz="2400" spc="-1" strike="noStrike">
              <a:solidFill>
                <a:srgbClr val="ffffff"/>
              </a:solidFill>
              <a:latin typeface="Tahoma"/>
            </a:endParaRPr>
          </a:p>
        </p:txBody>
      </p:sp>
      <p:sp>
        <p:nvSpPr>
          <p:cNvPr id="137" name="Rectangle 9"/>
          <p:cNvSpPr/>
          <p:nvPr/>
        </p:nvSpPr>
        <p:spPr>
          <a:xfrm>
            <a:off x="250920" y="3213000"/>
            <a:ext cx="4174920" cy="331164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ақсаттар: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 </a:t>
            </a:r>
            <a:r>
              <a:rPr b="0" lang="kk-KZ" sz="1800" spc="-1" strike="noStrike">
                <a:solidFill>
                  <a:srgbClr val="000000"/>
                </a:solidFill>
                <a:latin typeface="Tahoma"/>
              </a:rPr>
              <a:t>энерготұтынуды қысқар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қауіпті химиялық қосылыстарды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қолдануды қысқар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ҚО мәселелері бойынша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жұмысшыларды оқыту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ағынды суларды жіберуге лицензия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талаптарын сақтау</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Rectangle 10"/>
          <p:cNvSpPr/>
          <p:nvPr/>
        </p:nvSpPr>
        <p:spPr>
          <a:xfrm>
            <a:off x="4500720" y="3141720"/>
            <a:ext cx="4643280" cy="33829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Міндеттер:</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2012 жылы 2011 жылға қарағанда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электр тұтынуды 10%-ға қысқар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2012 жылы озон бұзатын заттарды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қолдануды тоқта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2012 жылы еріткіштерді қолдануды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25%-ға азай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ай сайын оқыту курстарын өткізу </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2012 жылы шектен тыс ластауды 30%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қысқарту.</a:t>
            </a:r>
            <a:endParaRPr b="0" lang="en-US" sz="1800" spc="-1" strike="noStrike">
              <a:solidFill>
                <a:srgbClr val="ffffff"/>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Мақсаты:</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туденттерді экологиялық саясатпен, экологиялық аспектілермен және экологиялық менеджменті жүйесінджегі </a:t>
            </a:r>
            <a:r>
              <a:rPr b="1" lang="ru-RU" sz="3200" spc="-1" strike="noStrike">
                <a:solidFill>
                  <a:srgbClr val="ffffff"/>
                </a:solidFill>
                <a:latin typeface="Tahoma"/>
              </a:rPr>
              <a:t>мақсаттармен, міндеттермен, бағдарламалармен таныстыр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Қоршаған ортаны басқару бағдарламалары</a:t>
            </a:r>
            <a:endParaRPr b="0" lang="en-US" sz="3600" spc="-1" strike="noStrike">
              <a:solidFill>
                <a:srgbClr val="ffffff"/>
              </a:solidFill>
              <a:latin typeface="Tahoma"/>
            </a:endParaRPr>
          </a:p>
        </p:txBody>
      </p:sp>
      <p:graphicFrame>
        <p:nvGraphicFramePr>
          <p:cNvPr id="140" name=""/>
          <p:cNvGraphicFramePr/>
          <p:nvPr/>
        </p:nvGraphicFramePr>
        <p:xfrm>
          <a:off x="324000" y="1916280"/>
          <a:ext cx="8569080" cy="4411440"/>
        </p:xfrm>
        <a:graphic>
          <a:graphicData uri="http://schemas.openxmlformats.org/drawingml/2006/table">
            <a:tbl>
              <a:tblPr/>
              <a:tblGrid>
                <a:gridCol w="3671640"/>
                <a:gridCol w="1656000"/>
                <a:gridCol w="1441440"/>
                <a:gridCol w="1800000"/>
              </a:tblGrid>
              <a:tr h="82548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оспарлық көрсеткі: 2012 жылы еріткіштерден қалдықтарды өңдіруді 25 %-ға қысқарту.</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ahoma"/>
                        </a:rPr>
                        <a:t>Әрекет</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Жауапты</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ahoma"/>
                        </a:rPr>
                        <a:t>Мерзімі</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ahoma"/>
                        </a:rPr>
                        <a:t>Ресурстар</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Майсыздандырғыштарды  анықта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Қолданудың мақсатқа сәйкестілігін бағала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Шығындар сметасын құрастыру</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ahoma"/>
                        </a:rPr>
                        <a:t>және с.с</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ahoma"/>
              </a:rPr>
              <a:t>Мақсаттар, міндеттер, бағдарламалар</a:t>
            </a:r>
            <a:endParaRPr b="0" lang="en-US" sz="40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ahoma"/>
              </a:rPr>
              <a:t>Мақсаттар мен міндеттер болуы қажет:</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үмкіндігі бойынша өлшемді</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экологиялық саясатпен келісулі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әрекеттегі заңнамалық және басқа да талаптарға сәйкес келу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3" name="Picture 4" descr="j0237922"/>
          <p:cNvPicPr/>
          <p:nvPr/>
        </p:nvPicPr>
        <p:blipFill>
          <a:blip r:embed="rId2"/>
          <a:stretch/>
        </p:blipFill>
        <p:spPr>
          <a:xfrm>
            <a:off x="6588000" y="4221000"/>
            <a:ext cx="2382840" cy="206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Экологиялық менеджмента бағдарламалары</a:t>
            </a:r>
            <a:endParaRPr b="0" lang="en-US" sz="3600" spc="-1" strike="noStrike">
              <a:solidFill>
                <a:srgbClr val="ffffff"/>
              </a:solidFill>
              <a:latin typeface="Tahoma"/>
            </a:endParaRPr>
          </a:p>
        </p:txBody>
      </p:sp>
      <p:sp>
        <p:nvSpPr>
          <p:cNvPr id="145" name="PlaceHolder 2"/>
          <p:cNvSpPr>
            <a:spLocks noGrp="1"/>
          </p:cNvSpPr>
          <p:nvPr>
            <p:ph/>
          </p:nvPr>
        </p:nvSpPr>
        <p:spPr>
          <a:xfrm>
            <a:off x="324000" y="2060640"/>
            <a:ext cx="8229600" cy="41148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Бағдарламаларды жасау кезінде есепке алу қажет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1778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ас кезінде жасау мен жүзеге асыруға кәсіпорын жұмысшыларын тарту</a:t>
            </a:r>
            <a:endParaRPr b="0" lang="en-US" sz="2000" spc="-1" strike="noStrike">
              <a:solidFill>
                <a:srgbClr val="ffffff"/>
              </a:solidFill>
              <a:latin typeface="Tahoma"/>
            </a:endParaRPr>
          </a:p>
          <a:p>
            <a:pPr indent="1778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ағдарламаны орындауға жауаптылар және күтілетін нәтижелер туралы анық ақпарат беру</a:t>
            </a:r>
            <a:endParaRPr b="0" lang="en-US" sz="2000" spc="-1" strike="noStrike">
              <a:solidFill>
                <a:srgbClr val="ffffff"/>
              </a:solidFill>
              <a:latin typeface="Tahoma"/>
            </a:endParaRPr>
          </a:p>
          <a:p>
            <a:pPr indent="1778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Үрдіске, қызметке маңызды өзгертулер енгізу кезінде бағдарламаны қайтадан бағалауды жүргізу</a:t>
            </a:r>
            <a:endParaRPr b="0" lang="en-US" sz="2000" spc="-1" strike="noStrike">
              <a:solidFill>
                <a:srgbClr val="ffffff"/>
              </a:solidFill>
              <a:latin typeface="Tahoma"/>
            </a:endParaRPr>
          </a:p>
          <a:p>
            <a:pPr indent="1778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Бағдарлама қарапайым және үнемі жақсартуды қарастыруы қажет</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Жоспар:</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Экологиялық саясат</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Экологиялық аспектілер</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Мақсаттар, міндеттер, бағдарламала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Экологиялық саясат</a:t>
            </a:r>
            <a:r>
              <a:rPr b="0" lang="ru-RU" sz="3700" spc="-1" strike="noStrike">
                <a:solidFill>
                  <a:srgbClr val="ffffff"/>
                </a:solidFill>
                <a:latin typeface="Tahoma"/>
              </a:rPr>
              <a:t> </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Экологиялық саясат экологиялық тиімділікті қолдауға және көтеруге мүмкіндік беретін, ұйымның экологиялық менеджменті жүйесін енгізу және жетілдіру үшін қозғаушы күш болып табылады. Сондықтан саясат жоғарғы басшылықтың міндеттемесін көрсетуі, қолданыстағы заңнаманы сақтауы және экологиялық менеджмент жүйесін үнемі жетілдіруі тиі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9640" y="1989000"/>
            <a:ext cx="82296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Экологиялық саясат ұйымға экологиялық мақсаттары мен міндеттерін белгілеу үшін негіз болады. Экологиялық саясат ішкі және сыртқы мүдделі тараптардың түсінуі үшін жеткілікті түрде айқын болуы қажет. Ол өзгеретін жағдайлар мен ақпараттарды көрсетуі үшін кезеңді талдануы және қайта қаралуы тиіс. </a:t>
            </a:r>
            <a:endParaRPr b="0" lang="en-US" sz="2800" spc="-1" strike="noStrike">
              <a:solidFill>
                <a:srgbClr val="ffffff"/>
              </a:solidFill>
              <a:latin typeface="Tahoma"/>
            </a:endParaRPr>
          </a:p>
        </p:txBody>
      </p:sp>
      <p:sp>
        <p:nvSpPr>
          <p:cNvPr id="99" name="Rectangle 2"/>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Экологиялық саясат</a:t>
            </a:r>
            <a:r>
              <a:rPr b="0" lang="ru-RU" sz="3700" spc="-1" strike="noStrike">
                <a:solidFill>
                  <a:srgbClr val="ffffff"/>
                </a:solidFill>
                <a:latin typeface="Tahoma"/>
              </a:rPr>
              <a:t> </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0000"/>
                </a:solidFill>
                <a:latin typeface="Tahoma"/>
              </a:rPr>
              <a:t>Экологиялық саясат</a:t>
            </a:r>
            <a:r>
              <a:rPr b="0" lang="ru-RU" sz="3700" spc="-1" strike="noStrike">
                <a:solidFill>
                  <a:srgbClr val="ffffff"/>
                </a:solidFill>
                <a:latin typeface="Tahoma"/>
              </a:rPr>
              <a:t> </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ahoma"/>
              </a:rPr>
              <a:t>Экологиялық саясатты қолдану саласы дәл анықталған болуы және экологиялық менеджмент жүйесін қолданудың белгілі бір саласы аясында қызметтің, өнімнің және қызмет көрсетудің жалпы сипатын, масштабтарын және экологиялық әсерлерін көрсетуі тиі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700" spc="-1" strike="noStrike">
                <a:solidFill>
                  <a:srgbClr val="ff0000"/>
                </a:solidFill>
                <a:latin typeface="Tahoma"/>
              </a:rPr>
              <a:t>Экологиялық саясат:</a:t>
            </a:r>
            <a:r>
              <a:rPr b="0" lang="ru-RU" sz="3700" spc="-1" strike="noStrike">
                <a:solidFill>
                  <a:srgbClr val="ffffff"/>
                </a:solidFill>
                <a:latin typeface="Tahoma"/>
              </a:rPr>
              <a:t> </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Іс-әрекет негізін қамтамасыз етеді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бойынша кәсіпорынның мақсаттары мен міндеттерін қоюды қамтамасыз етеді</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ұмыс бағытының жалпы пайымдауын береді</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тратегияларды, жоспарларды және әрекетерді салыстыруды жүргізу үшін негізді немесе эталонды қамтамасыз етеді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басқару жүйесінің негізін құрады</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Экологиялық саясат </a:t>
            </a:r>
            <a:br>
              <a:rPr sz="4000"/>
            </a:br>
            <a:r>
              <a:rPr b="1" lang="ru-RU" sz="3200" spc="-1" strike="noStrike">
                <a:solidFill>
                  <a:srgbClr val="ffffff"/>
                </a:solidFill>
                <a:latin typeface="Tahoma"/>
              </a:rPr>
              <a:t> тиіс:</a:t>
            </a:r>
            <a:endParaRPr b="0" lang="en-US" sz="32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Жоғары басшылықпен анықтал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Ұйымның сипаты мен көлеміне, оның іс-әрекетіне сәйкес бол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Өзінің іс-әрекетін дәйекті түрде жақсарту міндетінен тұруы және қоршаған ортаның ластануын алдын ал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аңнамалық және басқа да талаптарды орындау міндетінен тұр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ақсатты және жоспарлы көрсеткішерді қою үшін негізді құр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ұжатпен рәсімделуі, енгізілуі және жұмыс жағдайында ұсталуы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Ұйымда жұмыс істейтін барлық тұлғалар хабардар болуы</a:t>
            </a:r>
            <a:endParaRPr b="0" lang="en-US" sz="20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Қоғам үшін қол жетімді болуы </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106" name="Picture 4" descr="ed00316_"/>
          <p:cNvPicPr/>
          <p:nvPr/>
        </p:nvPicPr>
        <p:blipFill>
          <a:blip r:embed="rId2"/>
          <a:stretch/>
        </p:blipFill>
        <p:spPr>
          <a:xfrm>
            <a:off x="6767640" y="5014800"/>
            <a:ext cx="2376360" cy="18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Экологиялық саясат</a:t>
            </a:r>
            <a:r>
              <a:rPr b="0" lang="ru-RU" sz="4000" spc="-1" strike="noStrike">
                <a:solidFill>
                  <a:srgbClr val="ffffff"/>
                </a:solidFill>
                <a:latin typeface="Tahoma"/>
              </a:rPr>
              <a:t> </a:t>
            </a:r>
            <a:r>
              <a:rPr b="1" lang="ru-RU" sz="3200" spc="-1" strike="noStrike">
                <a:solidFill>
                  <a:srgbClr val="ffffff"/>
                </a:solidFill>
                <a:latin typeface="Tahoma"/>
              </a:rPr>
              <a:t> </a:t>
            </a:r>
            <a:endParaRPr b="0" lang="en-US" sz="32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Компанияның ішінде және оның сыртында саясат туралы хабарлау оны кәсіпорын жұмысшыларымен және басқа да мүдделі тарапармен кеңінен түсінуді қамтамасыз етуге мүмикіндік береді</a:t>
            </a:r>
            <a:endParaRPr b="0" lang="en-US" sz="20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Компания                                          Компания</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ішінде хабарлау                         сыртында хабарлау</a:t>
            </a:r>
            <a:endParaRPr b="0" lang="en-US" sz="1800" spc="-1" strike="noStrike">
              <a:solidFill>
                <a:srgbClr val="ffffff"/>
              </a:solidFill>
              <a:latin typeface="Tahoma"/>
            </a:endParaRPr>
          </a:p>
        </p:txBody>
      </p:sp>
      <p:sp>
        <p:nvSpPr>
          <p:cNvPr id="109" name="Rectangle 5"/>
          <p:cNvSpPr/>
          <p:nvPr/>
        </p:nvSpPr>
        <p:spPr>
          <a:xfrm>
            <a:off x="755640" y="3933720"/>
            <a:ext cx="3168720" cy="2448000"/>
          </a:xfrm>
          <a:prstGeom prst="rect">
            <a:avLst/>
          </a:prstGeom>
          <a:solidFill>
            <a:srgbClr val="33cccc"/>
          </a:solidFill>
          <a:ln w="9360">
            <a:solidFill>
              <a:srgbClr val="99ccff"/>
            </a:solidFill>
            <a:miter/>
          </a:ln>
        </p:spPr>
        <p:style>
          <a:lnRef idx="0"/>
          <a:fillRef idx="0"/>
          <a:effectRef idx="0"/>
          <a:fontRef idx="minor"/>
        </p:style>
        <p:txBody>
          <a:bodyPr wrap="none" lIns="90000" rIns="90000" tIns="46800" bIns="46800" anchor="ctr">
            <a:noAutofit/>
          </a:bodyPr>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Басқарушы директордан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жеке хат</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 Ішкі почта және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қпараттық бюллетендер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3) Хабарландыру тақталары</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 Жиналыстар</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 Дайындық курстары</a:t>
            </a:r>
            <a:endParaRPr b="0" lang="en-US" sz="1800" spc="-1" strike="noStrike">
              <a:solidFill>
                <a:srgbClr val="ffffff"/>
              </a:solidFill>
              <a:latin typeface="Tahoma"/>
            </a:endParaRPr>
          </a:p>
        </p:txBody>
      </p:sp>
      <p:sp>
        <p:nvSpPr>
          <p:cNvPr id="110" name="Rectangle 7"/>
          <p:cNvSpPr/>
          <p:nvPr/>
        </p:nvSpPr>
        <p:spPr>
          <a:xfrm>
            <a:off x="4500720" y="3933720"/>
            <a:ext cx="3671640" cy="2448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Брошюралар мен буклеттер</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Жарнама</a:t>
            </a:r>
            <a:endParaRPr b="0" lang="en-US" sz="1800" spc="-1" strike="noStrike">
              <a:solidFill>
                <a:srgbClr val="ffffff"/>
              </a:solidFill>
              <a:latin typeface="Tahoma"/>
            </a:endParaRPr>
          </a:p>
          <a:p>
            <a:pPr>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Мүдделі тараптармен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ездесулер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 Интернет</a:t>
            </a:r>
            <a:endParaRPr b="0" lang="en-US" sz="1800" spc="-1" strike="noStrike">
              <a:solidFill>
                <a:srgbClr val="ffffff"/>
              </a:solidFill>
              <a:latin typeface="Tahoma"/>
            </a:endParaRPr>
          </a:p>
          <a:p>
            <a:pPr>
              <a:buClr>
                <a:srgbClr val="ffffff"/>
              </a:buClr>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 </a:t>
            </a:r>
            <a:r>
              <a:rPr b="0" lang="kk-KZ" sz="1800" spc="-1" strike="noStrike">
                <a:solidFill>
                  <a:srgbClr val="ffffff"/>
                </a:solidFill>
                <a:latin typeface="Tahoma"/>
              </a:rPr>
              <a:t>БАҚ</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4T10:56:52Z</dcterms:modified>
  <cp:revision>204</cp:revision>
  <dc:subject/>
  <dc:title>Заголовок слайда отсутствует</dc:title>
</cp:coreProperties>
</file>